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C4E-2034-4419-A77F-C8341A44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8A7-F043-4339-B848-3EBBE6DA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61F-3B22-4308-9218-3298E14D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A5B-D18A-42FE-BC6C-09F08C52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2AB7-0090-4EFC-BFD2-0DA37D83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D2D0-305C-424E-8B30-314BB990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34DC-74C3-4EF2-913A-21F981D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D3D0-46FA-4B45-A8A8-A246AEBD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F94E-BB74-4B27-A849-8BC110BB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315D-7814-473A-846C-9D03F1A5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3577-436F-47B6-AF2D-CEE882D0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68F-E3B1-4740-A676-FA2C2100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35F2-B255-40CE-AE46-54592D81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FD4A-1E23-4C9E-821C-48D8875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6912-842E-474A-851E-2F029059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28DA-3293-45FB-93CB-7849422E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F6B9-6FE1-4AFD-9DE8-AC137E15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59B-8CB9-4EC9-986F-8C09872E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F81-EF6F-4A93-8980-C5D5A1EC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B69-879F-40B9-A2F4-79F49749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5F1-63AD-44B8-B046-D1E8F345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58E-E052-42BD-AAAB-1DD0C295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79D-B04E-4C40-AB37-2F4B00CE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E86-B2FA-4A22-9445-0F00D6F8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A786-E052-44D9-A9EC-381D9EBCE505}" type="slidenum"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F5B0-5E36-48B2-8BDF-048508887C5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8f4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8f4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ommunicating Clearl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Name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ere are over 1.5 million different species of organisms living on Earth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If people from different parts of the world named animals however they though was best, scientists would be confused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4343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Name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78f48"/>
                </a:solidFill>
                <a:uFillTx/>
                <a:latin typeface="Arial"/>
              </a:rPr>
              <a:t>Organism-</a:t>
            </a: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 a living thing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When someone “discovers” a new organism, they tend to give it a </a:t>
            </a:r>
            <a:r>
              <a:rPr b="1" lang="en-US" sz="3200" spc="-1" strike="noStrike">
                <a:solidFill>
                  <a:srgbClr val="078f48"/>
                </a:solidFill>
                <a:latin typeface="Arial"/>
              </a:rPr>
              <a:t>common name</a:t>
            </a: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629400" y="4114800"/>
            <a:ext cx="1295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g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257440" y="4952880"/>
            <a:ext cx="1066680" cy="0"/>
          </a:xfrm>
          <a:prstGeom prst="line">
            <a:avLst/>
          </a:prstGeom>
          <a:ln w="698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Name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cientists give organisms a </a:t>
            </a:r>
            <a:r>
              <a:rPr b="1" lang="en-US" sz="3200" spc="-1" strike="noStrike">
                <a:solidFill>
                  <a:srgbClr val="078f48"/>
                </a:solidFill>
                <a:latin typeface="Arial"/>
              </a:rPr>
              <a:t>scientific name</a:t>
            </a: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 to stop confusion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78f48"/>
                </a:solidFill>
                <a:uFillTx/>
                <a:latin typeface="Arial"/>
              </a:rPr>
              <a:t>Binomial Nomenclature</a:t>
            </a: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- a two-part scientific naming system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324480" y="4038480"/>
            <a:ext cx="1981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nthe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gr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440" y="4952880"/>
            <a:ext cx="1066680" cy="0"/>
          </a:xfrm>
          <a:prstGeom prst="line">
            <a:avLst/>
          </a:prstGeom>
          <a:ln w="698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Name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e language used for an organism’s scientific name is Latin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Latin is used because it is a “dead language.”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No people speak in Latin anymore, so the language never changes.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Moists and Grog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78f48"/>
                </a:solidFill>
                <a:latin typeface="Arial"/>
              </a:rPr>
              <a:t>Here is an example of what could happen if scientists did not group and name organisms the same way: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red, a scientist, is studying living things in Africa, and groups all the frogs, toads, and lizards (cold-blooded creatures) in a group called “grogs.”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Marie, another scientist doing a similar study, groups frogs, fish, and whales (water creatures) together and calls them “moists.”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995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066680" cy="100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7:05:45Z</dcterms:created>
  <dc:creator>Teacher</dc:creator>
  <dc:description/>
  <cp:keywords/>
  <dc:language>en-US</dc:language>
  <cp:lastModifiedBy>Teacher</cp:lastModifiedBy>
  <dcterms:modified xsi:type="dcterms:W3CDTF">2006-09-26T19:43:06Z</dcterms:modified>
  <cp:revision>7</cp:revision>
  <dc:subject/>
  <dc:title>Arthropo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33</vt:lpwstr>
  </property>
</Properties>
</file>